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6DAA-6DA2-48B7-9242-9668E97C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AFC-FC46-43AA-B1BE-B76071DB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E8E-26CD-47C5-B1FE-191D01D6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7B6-99AF-49F2-AB1F-EF65A474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0386-0278-41FD-BCDC-5694D191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474-72DC-4799-BB05-F999B1C6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BB3-A802-467F-9C07-D2F1968A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409-0122-4A90-803A-E856DF78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4D5-D71F-44E9-ABAC-BA32B4B7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39C-D4B8-4FAA-8076-8517C1E6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3F6-0B23-48F9-8982-BFB40593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C8B1-0078-4EBC-9316-B8FE20C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71C54-6DBC-4A9C-B76B-511E6C3AE498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4A34E-07B8-40D8-A977-41D0462FE92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92400" y="1179000"/>
            <a:ext cx="3351240" cy="445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oldilocks and the Three Bea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79276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c21a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pos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nce upon a time, there was a little girl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.went for a walk in woods...found a house.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ears go for a walk- little girl is walking through the woo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lic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nd a house knocked...no one was home, walked right in...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ldilocks starts eating the porridge, sitting in the chairs, sleeps in the b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ears find all their food ate, chairs sat in, and go to look at their be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max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by bear sees Goldilocks sleeping in his b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alling A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oldilocks woke up, jumped and ran from the ho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enoue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ver came back to the home of the three bea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y End of thy best story in the worl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9:09:22Z</dcterms:created>
  <dc:creator>Aly Wood</dc:creator>
  <dc:description/>
  <dc:language>en-US</dc:language>
  <cp:lastModifiedBy>Aly Wood</cp:lastModifiedBy>
  <dcterms:modified xsi:type="dcterms:W3CDTF">2009-12-03T19:18:18Z</dcterms:modified>
  <cp:revision>3</cp:revision>
  <dc:subject/>
  <dc:title>Goldilocks and the Three Bears</dc:title>
</cp:coreProperties>
</file>